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B163-9B08-48B1-BAB8-FFFC68B393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D5B-BA5C-4459-919D-4A7A41B9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E0BD-256B-4F8A-991F-91A1C9E9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41C-71D0-410D-B5C8-CB2EE2F5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6A2-2D3E-44A6-B533-683AE205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071-6D64-4C9C-894C-1FC0630D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A8C-AE53-4A58-AB66-0E332290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2FF-9696-4415-ACEE-44AC74F4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A02-8FDA-44ED-98AB-5D14AB72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254-5395-4ACD-BF62-BBA594E2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231-143A-4CFE-8BF4-33C15102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2728-09D7-46E4-93AF-C58FC52E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007-F8EC-4133-9379-703AC5BD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F800-2972-4BAC-9A8D-F69BBB2845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ansport of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ed for transpo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ne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ug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stay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NA01441_"/>
          <p:cNvPicPr/>
          <p:nvPr/>
        </p:nvPicPr>
        <p:blipFill>
          <a:blip r:embed="rId1"/>
          <a:stretch/>
        </p:blipFill>
        <p:spPr>
          <a:xfrm>
            <a:off x="3024360" y="2819520"/>
            <a:ext cx="33750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V="1">
            <a:off x="2819520" y="3200400"/>
            <a:ext cx="0" cy="31240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5800" y="32767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6781680" y="3276720"/>
            <a:ext cx="0" cy="3047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086600" y="32767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llow dead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ter and minerals transported in an upward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g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y strong so help support the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013280" cy="601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41936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nsports sugar around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v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anion cells provide the energy for the tube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nd walls of the tube cells have pores through which food is transported from cell to cell in the form of dissolved sug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324320" cy="3521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ny pores found on the surfaces of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tomata take in carbon diox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air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ater vapour passes ou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leaf to the atmosphere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1523880" y="380880"/>
            <a:ext cx="6324840" cy="60962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1:37:55Z</dcterms:created>
  <dc:creator>hhashmi</dc:creator>
  <dc:description/>
  <dc:language>en-US</dc:language>
  <cp:lastModifiedBy>LEGION</cp:lastModifiedBy>
  <dcterms:modified xsi:type="dcterms:W3CDTF">2016-12-07T08:32:05Z</dcterms:modified>
  <cp:revision>5</cp:revision>
  <dc:subject/>
  <dc:title>Transport of Materials</dc:title>
</cp:coreProperties>
</file>